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996C-DBBE-4825-97FD-5A0F26DC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CF38-5BB8-4923-AF74-E020124A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7A76-31D6-4F24-81E3-24537A753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26AE-9614-430C-9D1C-1E52C1C65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BF36-2D27-4951-BC6C-1BB17667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F8C9-9895-472F-8918-FBAE01DB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FFFE-6041-4D6E-B32F-83700400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EF17-1EFD-4771-BC0D-DF324812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D72D-A3D1-4581-A04E-495D392F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E25D-B1C5-43AC-92A6-A1B0F52A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A95D-D838-4692-8B2C-CCE54C1E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E0C7-3128-4B87-8595-C2F6E00A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7E1F-4063-4FC0-8824-2E9291AD8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kostovic.net/idexx" TargetMode="External"/><Relationship Id="rId3" Type="http://schemas.openxmlformats.org/officeDocument/2006/relationships/image" Target="../media/image8.wmf"/><Relationship Id="rId4" Type="http://schemas.openxmlformats.org/officeDocument/2006/relationships/hyperlink" Target="http://www.kostovic.net/idexx" TargetMode="External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www.kostovic.net/idexx" TargetMode="External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eterinary software develop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3240" y="1631880"/>
            <a:ext cx="4502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Sans Unicode"/>
              </a:rPr>
              <a:t>Areas of software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2286000"/>
            <a:ext cx="7391520" cy="4597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Practitio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3276720"/>
            <a:ext cx="7391520" cy="4597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Labora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4191120"/>
            <a:ext cx="7391520" cy="4597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5029200"/>
            <a:ext cx="7391520" cy="4597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Epidemiolog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5943600"/>
            <a:ext cx="7391520" cy="4597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62160" y="1828800"/>
            <a:ext cx="5616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ZapfDingbats BT"/>
                <a:ea typeface="ZapfDingbats BT"/>
              </a:rPr>
              <a:t>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62160" y="2819520"/>
            <a:ext cx="5616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ZapfDingbats BT"/>
                <a:ea typeface="ZapfDingbats BT"/>
              </a:rPr>
              <a:t>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562160" y="3733920"/>
            <a:ext cx="5616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ZapfDingbats BT"/>
                <a:ea typeface="ZapfDingbats BT"/>
              </a:rPr>
              <a:t>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62160" y="4572000"/>
            <a:ext cx="5616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ZapfDingbats BT"/>
                <a:ea typeface="ZapfDingbats BT"/>
              </a:rPr>
              <a:t>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62160" y="5486400"/>
            <a:ext cx="5616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ZapfDingbats BT"/>
                <a:ea typeface="ZapfDingbats BT"/>
              </a:rPr>
              <a:t>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ndex03" descr=""/>
          <p:cNvPicPr/>
          <p:nvPr/>
        </p:nvPicPr>
        <p:blipFill>
          <a:blip r:embed="rId1"/>
          <a:stretch/>
        </p:blipFill>
        <p:spPr>
          <a:xfrm>
            <a:off x="4546440" y="685800"/>
            <a:ext cx="4597560" cy="6172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380880"/>
            <a:ext cx="7391160" cy="4597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 Black"/>
              </a:rPr>
              <a:t>Labora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xfmhvid" descr=""/>
          <p:cNvPicPr/>
          <p:nvPr/>
        </p:nvPicPr>
        <p:blipFill>
          <a:blip r:embed="rId2"/>
          <a:stretch/>
        </p:blipFill>
        <p:spPr>
          <a:xfrm>
            <a:off x="304920" y="5638680"/>
            <a:ext cx="1269720" cy="990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1289160"/>
            <a:ext cx="20476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xChe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28600" y="2362320"/>
            <a:ext cx="2606760" cy="685800"/>
            <a:chOff x="228600" y="2362320"/>
            <a:chExt cx="2606760" cy="685800"/>
          </a:xfrm>
        </p:grpSpPr>
        <p:sp>
          <p:nvSpPr>
            <p:cNvPr id="58" name=""/>
            <p:cNvSpPr/>
            <p:nvPr/>
          </p:nvSpPr>
          <p:spPr>
            <a:xfrm>
              <a:off x="351000" y="2362320"/>
              <a:ext cx="2361960" cy="6858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" y="2476440"/>
              <a:ext cx="26067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Languag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8600" y="3200400"/>
            <a:ext cx="2606760" cy="685800"/>
            <a:chOff x="228600" y="3200400"/>
            <a:chExt cx="2606760" cy="685800"/>
          </a:xfrm>
        </p:grpSpPr>
        <p:sp>
          <p:nvSpPr>
            <p:cNvPr id="61" name=""/>
            <p:cNvSpPr/>
            <p:nvPr/>
          </p:nvSpPr>
          <p:spPr>
            <a:xfrm>
              <a:off x="351000" y="3200400"/>
              <a:ext cx="2361960" cy="68580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8600" y="3314880"/>
              <a:ext cx="26067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Test nam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28600" y="4038480"/>
            <a:ext cx="2606760" cy="685800"/>
            <a:chOff x="228600" y="4038480"/>
            <a:chExt cx="2606760" cy="685800"/>
          </a:xfrm>
        </p:grpSpPr>
        <p:sp>
          <p:nvSpPr>
            <p:cNvPr id="64" name=""/>
            <p:cNvSpPr/>
            <p:nvPr/>
          </p:nvSpPr>
          <p:spPr>
            <a:xfrm>
              <a:off x="351000" y="4038480"/>
              <a:ext cx="2361960" cy="68580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8600" y="4152960"/>
              <a:ext cx="26067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Test protoc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28600" y="4876920"/>
            <a:ext cx="2606760" cy="685800"/>
            <a:chOff x="228600" y="4876920"/>
            <a:chExt cx="2606760" cy="685800"/>
          </a:xfrm>
        </p:grpSpPr>
        <p:sp>
          <p:nvSpPr>
            <p:cNvPr id="67" name=""/>
            <p:cNvSpPr/>
            <p:nvPr/>
          </p:nvSpPr>
          <p:spPr>
            <a:xfrm>
              <a:off x="351000" y="4876920"/>
              <a:ext cx="2361960" cy="68580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28600" y="4991040"/>
              <a:ext cx="26067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Reader 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200400" y="2209680"/>
            <a:ext cx="2743200" cy="35816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2923200" y="3223080"/>
            <a:ext cx="329868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imes New Roman"/>
              </a:rPr>
              <a:t>BAS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30960" y="2209680"/>
            <a:ext cx="196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imbusSanNo5TCYMed"/>
              </a:rPr>
              <a:t>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imbusSanNo5TCYMed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imbusSanNo5TCYMed"/>
              </a:rPr>
              <a:t>Windows 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NimbusSanNo5TCYMed"/>
              </a:rPr>
              <a:t>Windows 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lugdb" descr=""/>
          <p:cNvPicPr/>
          <p:nvPr/>
        </p:nvPicPr>
        <p:blipFill>
          <a:blip r:embed="rId8"/>
          <a:stretch/>
        </p:blipFill>
        <p:spPr>
          <a:xfrm>
            <a:off x="6553080" y="3949560"/>
            <a:ext cx="2057400" cy="698760"/>
          </a:xfrm>
          <a:prstGeom prst="rect">
            <a:avLst/>
          </a:prstGeom>
          <a:ln w="0">
            <a:noFill/>
          </a:ln>
        </p:spPr>
      </p:pic>
      <p:pic>
        <p:nvPicPr>
          <p:cNvPr id="73" name="plugin" descr=""/>
          <p:cNvPicPr/>
          <p:nvPr/>
        </p:nvPicPr>
        <p:blipFill>
          <a:blip r:embed="rId9"/>
          <a:stretch/>
        </p:blipFill>
        <p:spPr>
          <a:xfrm>
            <a:off x="6553080" y="4788000"/>
            <a:ext cx="205740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4920" y="380880"/>
            <a:ext cx="7391160" cy="4597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 Black"/>
              </a:rPr>
              <a:t>Labora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2560" y="1523880"/>
            <a:ext cx="54705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velopment of cust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grams for RLH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ulti Probe - Packard Instrument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080" y="3673440"/>
            <a:ext cx="54673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ustomer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ximum use of Internet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080" y="5486400"/>
            <a:ext cx="47390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elp with organizatio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aboratory work for HTS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15200" y="1676520"/>
            <a:ext cx="1120680" cy="888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7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315200" y="3530520"/>
            <a:ext cx="1120680" cy="8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228600"/>
            <a:ext cx="7391520" cy="4597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 Black"/>
              </a:rPr>
              <a:t>Epidemiologists &amp;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7520" y="1639800"/>
            <a:ext cx="65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ell diagnostic kits - best on this pla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3280" y="2362320"/>
            <a:ext cx="55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ell laboratory support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8960" y="3886200"/>
            <a:ext cx="599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complet the big picture we must se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2080" y="4724280"/>
            <a:ext cx="7668000" cy="6426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pidemiology Monitoring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8560" y="5867280"/>
            <a:ext cx="124740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I-S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0760" y="3122640"/>
            <a:ext cx="56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we do consulting for labora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ue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magics390" descr=""/>
          <p:cNvPicPr/>
          <p:nvPr/>
        </p:nvPicPr>
        <p:blipFill>
          <a:blip r:embed="rId2"/>
          <a:stretch/>
        </p:blipFill>
        <p:spPr>
          <a:xfrm>
            <a:off x="5241960" y="3962520"/>
            <a:ext cx="3902040" cy="2535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0880" y="228600"/>
            <a:ext cx="7391520" cy="4597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 Black"/>
              </a:rPr>
              <a:t>Epidemiologists &amp;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2080" y="1295280"/>
            <a:ext cx="82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 databases for epidemiology monitoring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1000" y="1981080"/>
            <a:ext cx="67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ability through IBM wide range of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2080" y="2590920"/>
            <a:ext cx="48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ability of Oracle database 8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327672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server, one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2440" y="403848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772400" y="2514600"/>
            <a:ext cx="1120680" cy="888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96" name=""/>
          <p:cNvSpPr/>
          <p:nvPr/>
        </p:nvSpPr>
        <p:spPr>
          <a:xfrm>
            <a:off x="5257800" y="3581280"/>
            <a:ext cx="3886200" cy="381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6:22:51Z</dcterms:created>
  <dc:creator>OEM</dc:creator>
  <dc:description/>
  <dc:language>en-US</dc:language>
  <cp:lastModifiedBy>OEM</cp:lastModifiedBy>
  <dcterms:modified xsi:type="dcterms:W3CDTF">1999-09-17T18:07:40Z</dcterms:modified>
  <cp:revision>3</cp:revision>
  <dc:subject/>
  <dc:title>Veterinary software development</dc:title>
</cp:coreProperties>
</file>