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245-92DC-411B-9A9D-518A2883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1E8-7959-4099-A218-7C66DA3A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DFB-7C06-4157-AB6B-B8DB45E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CAD-C2CF-46EE-BB1F-2BD4137D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4E50-7D51-413B-83D8-A2DB5B6C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0E7-3F1A-4620-8843-3A7D5509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EC8E-724B-4B99-B6E1-356084A3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6174-8E54-44B3-87AD-D1B3EC3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0F16-0292-4D86-8CB4-BAC74A7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F970-C8FD-4718-89C4-3084907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72F7-7BE9-4978-9AAF-2A740AD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45D-6358-4D20-9AE7-2E2AB9F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4FB3-1BDE-4ED3-806E-E426426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7953-D661-4E62-9C2F-04C3B7F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4C2D-F278-4B7E-BC9C-FE5605B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3C3-2410-4D03-BE23-84193288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5321-B292-474D-BF6D-72538940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30A-4059-4118-97C3-894DBB4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838-82B5-433E-AD98-1FC8A3F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A17-9D3E-49AE-BF3B-B796C374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591-7684-4DC9-9A78-D32A3E39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3A2-4F20-41D3-8B5F-C1F5AE7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F8F-2425-4E7E-A61B-0DFB73BF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9E9-2EEB-4DA3-A8E8-EDCC0C8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E9F-A8E5-4EB2-BF22-0E14E1F286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FD5-0503-4E2F-AED3-E1B93611D90C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21608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CNA semestar 1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jekat kablir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kultet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sporta i fizičkog vaspitanj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Antonio Novakov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ahoma"/>
              </a:rPr>
              <a:t>Oliver Ilić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atchment area iznosi 6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oriste se kablovi kategorije 5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Horizontalna instalacija vodi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e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roz PVC kanale dimenzija 110x70, 35x35 i 35x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završavaju sa jedne strane na 19” patch panelima u razvodnim ormarima, a sa druge strane na nazidnim blok utičnic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1981080"/>
          <a:ext cx="7391160" cy="463716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43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Ventilator panel sa tri ventilatora i termostat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24xRJ45 1HE (za telefon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olica 19”  2H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</a:t>
                      </a:r>
                      <a:r>
                        <a:rPr b="0" lang="en-U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</a:t>
                      </a: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 sa prekidače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MDF R1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1,1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3,1104,1105,1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7,1108,1109,1110,1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2,1113,1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15,1116,1117,1118,1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0,1121,1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3,1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5,1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7,1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29,1130,1131,1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1,1202,1203,1204,1205,1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7,1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9,12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3,12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5,1216,1217,1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19,1320,1321,1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3,1224,1225,1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27,1228,1229,1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31,1232,1301,1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3,1304,1305,13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07,1308,1309,1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1,1312,1313,1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5,1316,1317,13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19,1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 linije ukupne duž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67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materijal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2133720"/>
          <a:ext cx="7391160" cy="360180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k orman KRONE 19” 18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panel KRONE HIGHWAY sa 32xRJ45 1H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ržač kablova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110x7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VC kanal 35x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3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Napajanje za rack 19” 7x320 sa prekidač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abl punog preseka (wall) Cat.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6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atch kabl dužine 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RONE nazidna blok utičnica SMK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1,31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3,3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5,3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7,3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,5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09,3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1,31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3,3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5,3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7,3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19,3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3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1,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3,3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,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5,3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648320" y="1981080"/>
          <a:ext cx="3886200" cy="426744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7,31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129,2130,3131,3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1,3202,3203,3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5,3206,3207,32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09,3210,3211,32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3,3214,3215,32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17,3218,3219,2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321,3222,3223,32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5,3226,3227,32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6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229,2330,3231,32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1,3302,3303,3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5,3306,3307,33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09,3310,3311,3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1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          IDF R2 - spisak lin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14600" y="1981080"/>
          <a:ext cx="3886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3,3314,3315,33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17,3318,3319,3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5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1,3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2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3,3324,3325,3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27,3328,3329,3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69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331,3332,3401,3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3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3,3404,3405,34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7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07,3408,3409,3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411,34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8 </a:t>
                      </a: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linij</a:t>
                      </a: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 ukupne du</a:t>
                      </a:r>
                      <a:r>
                        <a:rPr b="1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ž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984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zitivn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uticaja EMI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elike brzine prenosa 1Gbps i viš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ema problema sa uzemlje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Verikalni razvod – cat.5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Maksimalna brzina do 1Gb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Niska c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egativne stra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40000"/>
                </a:solidFill>
                <a:latin typeface="Tahoma"/>
              </a:rPr>
              <a:t>Horizontalni razvod - op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ff"/>
                </a:solidFill>
                <a:latin typeface="Tahoma"/>
              </a:rPr>
              <a:t>Visoka cena optičkog kabla i komponen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21608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CNA semestar 1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jekat kablir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Fakultet </a:t>
            </a:r>
            <a:r>
              <a:rPr b="0" lang="sr-Latn-CS" sz="4000" spc="-1" strike="noStrike">
                <a:solidFill>
                  <a:srgbClr val="000066"/>
                </a:solidFill>
                <a:latin typeface="Tahoma"/>
              </a:rPr>
              <a:t>sporta i fizičkog vaspitanj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Antonio Novaković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Oliver Ilić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2096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Razvodni ormari obeleženi su oznakama R1 – R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MDF u toj notaciji ima oznaku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IDFovi su obeleženi sa R2 – R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vertikalnog razvoda imaju oznake oblika:   RP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ri čemu je R  – oznaka rek ormana (1 -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P   – oznaka patch panela (0 –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                       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0 se koristi za optički patch pa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XX – oznaka porta na patch pan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Linije horizontalnog razvoda obeležene su na isti nač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Način obeležavan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prostorij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320" y="1881360"/>
            <a:ext cx="8915400" cy="4595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39625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66"/>
                </a:solidFill>
                <a:latin typeface="Times New Roman"/>
              </a:rPr>
              <a:t>Sve prostorije koje nisu obeležene predstavljaju kancelari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Raspored razvodnih ormar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horizontala%20-%20sire" descr=""/>
          <p:cNvPicPr/>
          <p:nvPr/>
        </p:nvPicPr>
        <p:blipFill>
          <a:blip r:embed="rId2"/>
          <a:stretch/>
        </p:blipFill>
        <p:spPr>
          <a:xfrm>
            <a:off x="1676520" y="1839960"/>
            <a:ext cx="60642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Položaj MDF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MDF se nalazi na prvom sp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P je u podrumu zgrade, i iz njega se do MDFa vodi telefonski kabl sa 20 pa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se do MDFa dovode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kroz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 PVC kanal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erveri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će biti postavljeni u istoj prostoriji u kojoj je M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Izbor kabla za 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Dartmouth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315200" cy="396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52419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Za vertikalno kabliranje koristiće se optički kabl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50/125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m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sa 4. optička vlak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Pošto je površina sprata veća od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1000m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na svakom spratu se stavljaju najmanje dva rek ormana (u podrumu samo je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ff"/>
                </a:solidFill>
                <a:latin typeface="Tahoma"/>
              </a:rPr>
              <a:t>Kablovi vertikalnog razvoda vode se kroz PVC ka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Vertik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66880" y="4343400"/>
          <a:ext cx="3886200" cy="2122560"/>
        </p:xfrm>
        <a:graphic>
          <a:graphicData uri="http://schemas.openxmlformats.org/drawingml/2006/table">
            <a:tbl>
              <a:tblPr/>
              <a:tblGrid>
                <a:gridCol w="2819160"/>
                <a:gridCol w="1067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n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ž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1,1002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2001,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3,1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3001,3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5,1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4001,4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3,4004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5001,5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05,4006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6001,6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5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007,1008 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 7001,7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10 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914400" y="2133720"/>
          <a:ext cx="7391520" cy="18190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1219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z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.m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lič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kab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, 4 vlak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za 12xSC duplex adapt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duplex adapter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 pigtai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ptički patch panel 50/125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 SC – S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k</a:t>
                      </a: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Horizontalno kabliranj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20" y="1957320"/>
            <a:ext cx="9001080" cy="4748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260360" y="1557360"/>
            <a:ext cx="9356760" cy="9356760"/>
          </a:xfrm>
          <a:prstGeom prst="ellipse">
            <a:avLst/>
          </a:prstGeom>
          <a:solidFill>
            <a:srgbClr val="000066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494160" y="-1684440"/>
            <a:ext cx="9356760" cy="9356760"/>
          </a:xfrm>
          <a:prstGeom prst="ellipse">
            <a:avLst/>
          </a:prstGeom>
          <a:solidFill>
            <a:srgbClr val="0066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21:54:11Z</dcterms:created>
  <dc:creator>Antonio Novakovic</dc:creator>
  <dc:description/>
  <dc:language>en-US</dc:language>
  <cp:lastModifiedBy>Antonio Novakovic</cp:lastModifiedBy>
  <dcterms:modified xsi:type="dcterms:W3CDTF">2003-05-13T08:18:23Z</dcterms:modified>
  <cp:revision>142</cp:revision>
  <dc:subject/>
  <dc:title>CCNA semestar 1 Projekat kabliranja</dc:title>
</cp:coreProperties>
</file>