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278-2F85-40E6-9795-70BA29EA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DAC-D314-4DB3-9D75-C6FA5134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810-42E5-422C-BF9C-F7DD83CD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90B-5662-42C4-BE8C-3C546BFD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41B9-8438-4544-B53C-7D5B7427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371D-4158-4181-A483-210FF6F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E2F2-7A4E-40F5-97EB-7E0A354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913-DCBE-41A1-95BE-F54290C0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3D1-14E4-48B3-9C2D-AAA2260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B6EF-62B6-485D-B3F2-DDCE2F2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69B2-3CBD-4597-A54B-567C069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F87-9684-4EA0-873F-623DC9D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069-C199-4D1C-A436-E8668EF6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82F-1267-4B4A-ADB4-5E9F856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4F8-E643-4B0E-A632-F9A9542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F906-A759-479A-854D-1830ED9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4D4-ADCB-45FB-9047-F4A9BDB3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6C4-3691-4983-9613-09AF5952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2BF-F7B4-489A-9A65-E158BE4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855-AF86-4606-B27D-2105042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9B0-C588-40FB-8210-C387AF2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B56-A105-4BE6-90EE-63A7B2F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DB0-C1AE-4725-BFFB-73398BC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705-05C4-4E1A-9D0F-7C2C7BC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2F7-FE2D-454F-9960-F9E9E44BA0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B20-A60F-4D80-97EE-9EA3D45D7513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21608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CNA semestar 1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jekat kablir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kultet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sporta i fizičkog vaspitanj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Antonio Novakov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Oliver Il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Horizontalna instalacija se vodi kroz PVC kanale dimenzija 110x70, 35x35 i 35x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oriste se kablovi kategorije 5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završavaju sa jedne strane na 19” patch panelima u razvodnim ormarima, a sa druge strane na nazidnim blok utičnic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981080"/>
          <a:ext cx="7410240" cy="4637160"/>
        </p:xfrm>
        <a:graphic>
          <a:graphicData uri="http://schemas.openxmlformats.org/drawingml/2006/table">
            <a:tbl>
              <a:tblPr/>
              <a:tblGrid>
                <a:gridCol w="504828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43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Ventilator panel sa tri ventilatora i termostat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24xRJ45 1HE (za telefon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olica 19”  2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320 sa prekidače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1,1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3,1104,1105,1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7,1108,1109,1110,1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2,1113,1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5,1116,1117,1118,1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0,1121,1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3,1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5,1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7,1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9,1130,1131,1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1,1202,1203,1204,1205,1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7,1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9,12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3,12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5,1216,1217,1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9,1320,1321,1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3,1224,1225,1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7,1228,1229,1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31,1232,1301,1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3,1304,1305,13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7,1308,1309,1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,1313,1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5,1316,1317,13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9,1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kupno 84 lini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90720" y="2133720"/>
          <a:ext cx="7391160" cy="360180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18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320 sa prekidač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1,3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3,3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5,3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7,3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,5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9,3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1,3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3,3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5,3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7,3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9,3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1,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3,3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5,3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7,3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9,2130,3131,3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1,3202,3203,3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5,3206,3207,3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9,3210,3211,32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3,3214,3215,32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7,3218,3219,2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321,3222,3223,32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5,3226,3227,32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9,2330,3231,32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1,3302,3303,3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5,3306,3307,33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9,3310,3311,3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14600" y="1981080"/>
          <a:ext cx="3886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3,3314,3315,33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7,3318,3319,3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1,3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3,3324,3325,3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7,3328,3329,3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31,3332,3401,3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3,3404,3405,34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7,3408,3409,3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11,34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kupno linija 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treb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2880" y="1982880"/>
            <a:ext cx="8296200" cy="35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otreba oprema za MDF</a:t>
            </a: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 (R1)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Router s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bar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tri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fast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ethernet port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i jednim serijskim port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Switch s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najmanje 60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fast ethernet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ortova 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0066ff"/>
                </a:solidFill>
                <a:latin typeface="Tahoma"/>
              </a:rPr>
              <a:t>najmanje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4 opti</a:t>
            </a: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čka p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Potrebna oprema za IDF (R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Switch sa 60 portova i najmanje 4 optička p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66ff"/>
                </a:solidFill>
                <a:latin typeface="Tahoma"/>
              </a:rPr>
              <a:t>Potrebna oprema za ostale IDF-ove (R2, R3, R5, R6, R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66ff"/>
                </a:solidFill>
                <a:latin typeface="Tahoma"/>
              </a:rPr>
              <a:t>Switch sa najmanje 48 fast ethernet portova i najmanje jednim optičkim port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abra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</a:t>
            </a: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362320"/>
          <a:ext cx="8380440" cy="2074680"/>
        </p:xfrm>
        <a:graphic>
          <a:graphicData uri="http://schemas.openxmlformats.org/drawingml/2006/table">
            <a:tbl>
              <a:tblPr/>
              <a:tblGrid>
                <a:gridCol w="455760"/>
                <a:gridCol w="4952880"/>
                <a:gridCol w="838080"/>
                <a:gridCol w="83844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14412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ISCO2621XM-2FE/VPN/K9 Rou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6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6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IC-2A/S – 2 port async/sync WAN interface ca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8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8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3508G-XL Cisco Catalyst switch with 8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2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2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96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2980 Cisco Catalyst switch with 80FE ports,2 Gbic slot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9960" y="194796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MDF (R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9400" y="441792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IDF (R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4800600"/>
          <a:ext cx="8381880" cy="1487520"/>
        </p:xfrm>
        <a:graphic>
          <a:graphicData uri="http://schemas.openxmlformats.org/drawingml/2006/table">
            <a:tbl>
              <a:tblPr/>
              <a:tblGrid>
                <a:gridCol w="457200"/>
                <a:gridCol w="4952880"/>
                <a:gridCol w="838440"/>
                <a:gridCol w="83808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10606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sco Catalyst switch 2948G – 48 port FE ports, 2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35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35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96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C2980 Cisco Catalyst switch with 80FE ports, 2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51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abrana a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tivna oprem</a:t>
            </a: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5040" y="186840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Potrebna oprema za ostale IDF-ove (R2, R3, R5, R6 i R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228760"/>
          <a:ext cx="8381880" cy="1165320"/>
        </p:xfrm>
        <a:graphic>
          <a:graphicData uri="http://schemas.openxmlformats.org/drawingml/2006/table">
            <a:tbl>
              <a:tblPr/>
              <a:tblGrid>
                <a:gridCol w="457200"/>
                <a:gridCol w="4952880"/>
                <a:gridCol w="838440"/>
                <a:gridCol w="838080"/>
                <a:gridCol w="12952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b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ena po komad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kupna ce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40000"/>
                          </a:solidFill>
                          <a:latin typeface="Tahoma"/>
                        </a:rPr>
                        <a:t>(22055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isco Catalyst 2948G – 48 fast ethernet ports, 2 Gbic slo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112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560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S-G5486 Fiber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9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95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41360" y="3733920"/>
            <a:ext cx="771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kupna cena aktivne opreme za celu </a:t>
            </a:r>
            <a:r>
              <a:rPr b="0" lang="hr-HR" sz="1400" spc="-1" strike="noStrike">
                <a:solidFill>
                  <a:srgbClr val="000066"/>
                </a:solidFill>
                <a:latin typeface="Tahoma"/>
              </a:rPr>
              <a:t>računarsku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re</a:t>
            </a:r>
            <a:r>
              <a:rPr b="0" lang="hr-HR" sz="1400" spc="-1" strike="noStrike">
                <a:solidFill>
                  <a:srgbClr val="000066"/>
                </a:solidFill>
                <a:latin typeface="Tahoma"/>
              </a:rPr>
              <a:t>žu iznosi </a:t>
            </a:r>
            <a:r>
              <a:rPr b="0" lang="hr-HR" sz="1400" spc="-1" strike="noStrike">
                <a:solidFill>
                  <a:srgbClr val="f40000"/>
                </a:solidFill>
                <a:latin typeface="Tahoma"/>
              </a:rPr>
              <a:t>47073$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Logička topologija mrež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6720" y="2359080"/>
            <a:ext cx="77151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2096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Razvodni ormari obeleženi su oznakama R1 – R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MDF u toj notaciji ima oznaku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IDFovi su obeleženi sa R2 – R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vertikalnog razvoda imaju oznake oblika:   RP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ri čemu je R  – oznaka rek ormana (1 -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   – oznaka patch panela (0 –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0 se koristi za optički patch 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XX – oznaka porta na patch pan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horizontalnog razvoda obeležene su na isti nač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ačin obeležav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Diagram veze aktivne opre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219320" y="1649520"/>
            <a:ext cx="6858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VLAN1, VLAN2, DM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Na VLAN-u 1 nalaze se računari svih zaposlenih na fakultetu i Windows 2000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U DMZ zoni se se nalazi samo Linux server, i ka njemu su dozvoljeni sledeći servi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ahoma"/>
              </a:rPr>
              <a:t>SMTP, POP3, WWW, DNS, SSH, PROX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Tahoma"/>
              </a:rPr>
              <a:t>Na VLAN-u 2 nalaze se svi ostali računari (radne stani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66"/>
                </a:solidFill>
                <a:latin typeface="Tahoma"/>
              </a:rPr>
              <a:t>Dozvola pristupa (AC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Dozvola pristupa određenim servisima na Linux server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1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5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UDP any 147.91.231.5 0.0.0.0 eq 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339966"/>
                </a:solidFill>
                <a:latin typeface="Tahoma"/>
              </a:rPr>
              <a:t>permit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TCP any 147.91.231.5 0.0.0.0 eq 808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Access-list 100 </a:t>
            </a:r>
            <a:r>
              <a:rPr b="0" lang="hr-HR" sz="1600" spc="-1" strike="noStrike">
                <a:solidFill>
                  <a:srgbClr val="f40000"/>
                </a:solidFill>
                <a:latin typeface="Tahoma"/>
              </a:rPr>
              <a:t>deny</a:t>
            </a: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 IP any an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Interface eth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66"/>
                </a:solidFill>
                <a:latin typeface="Tahoma"/>
              </a:rPr>
              <a:t>Ip access-group 100 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zitiv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uticaja EMI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elike brzine prenosa 1Gbps i viš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problema sa uzemlje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Verikalni razvod – cat.5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Maksimalna brzina do 1Gb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iska c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egativ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isoka cena optičkog kabla i komponen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AN ZAHTEVI I POTR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Veze izmedju centara, koji se nalaze u regionu, se ostvaruju putem poprecnih veza tj. Iznajmljenih linija Mash tehnologij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Ukupno postoje 3 regionalna cvorista i svako povezuje 12 skola koje se medjusobno vezuju dark fiber tehnologij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rveri se nalaze u samom cvoristu dok je jedno cvoriste povezano preko Frame Relay Wan lin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ASPORED ADR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strikt ima adresni prostor 147.91.0.0 255.255.192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reza je podeljenja na subnete koji imaju masku 255.255.255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Jedan subnet sluzi za internet a drugi za demilitarizovanu zonu (DMZ), sa adresnim prostorom 147.91.1.0 255.255.255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ubnet koji se koristi za veze izmedju cvorista je 147.91.3.0 /24 a on se dalje deli u /30 subn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o jedan subnet se koristi za vezu regionalnog cvorista (RCUB-A 147.91.5.0/24) sa skolama koji se dalje deli u /30 subnete (255.255.255.25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PISAK SERIJSKIH INTERFEISA (CVORISTE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981080"/>
          <a:ext cx="8278560" cy="4399920"/>
        </p:xfrm>
        <a:graphic>
          <a:graphicData uri="http://schemas.openxmlformats.org/drawingml/2006/table">
            <a:tbl>
              <a:tblPr/>
              <a:tblGrid>
                <a:gridCol w="3065760"/>
                <a:gridCol w="1457280"/>
                <a:gridCol w="37555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interfej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 adresa/subnet mas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1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5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9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2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B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6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B INTERF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0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47.91.3.10/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GICKA TOPOLOGIJA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733320" cy="47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236000" y="3789360"/>
            <a:ext cx="658800" cy="64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45000"/>
            <a:ext cx="655560" cy="64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979640" y="5734080"/>
            <a:ext cx="798480" cy="601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643280" y="2924280"/>
            <a:ext cx="792360" cy="598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916360" y="4508640"/>
            <a:ext cx="792000" cy="60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708360" y="5734080"/>
            <a:ext cx="798480" cy="60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6093000"/>
            <a:ext cx="80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RC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56560" y="5589720"/>
            <a:ext cx="12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88040" y="6461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HAW BU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360" y="443700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STRICT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3280" y="5157720"/>
            <a:ext cx="4334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627280" y="5157720"/>
            <a:ext cx="504720" cy="503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5157720"/>
            <a:ext cx="432000" cy="503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6093000"/>
            <a:ext cx="718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51280" y="4292280"/>
            <a:ext cx="1441440" cy="43164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164360" y="4797360"/>
            <a:ext cx="644400" cy="647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6300720" y="4076280"/>
            <a:ext cx="6476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300720" y="4076640"/>
            <a:ext cx="935280" cy="21600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4437000"/>
            <a:ext cx="1081080" cy="50472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581360"/>
            <a:ext cx="503280" cy="71928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28000" y="5013360"/>
            <a:ext cx="6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1080" y="4005360"/>
            <a:ext cx="15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4520" y="616572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219640" y="3573360"/>
            <a:ext cx="504720" cy="43200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35280" y="213372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48880" y="2554200"/>
            <a:ext cx="206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2997360"/>
            <a:ext cx="792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2133720"/>
            <a:ext cx="4320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49880" y="1989000"/>
            <a:ext cx="20739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RIJSKA V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P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2781360"/>
            <a:ext cx="432000" cy="0"/>
          </a:xfrm>
          <a:prstGeom prst="line">
            <a:avLst/>
          </a:prstGeom>
          <a:ln w="5724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328464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51640" y="2637000"/>
            <a:ext cx="40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78760" y="3135240"/>
            <a:ext cx="2119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RIJSKA VEZ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RAME RE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CUB RASPORED IP ADRES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778040"/>
          <a:ext cx="9144000" cy="512280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  <a:gridCol w="2398680"/>
                <a:gridCol w="2173320"/>
                <a:gridCol w="157464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\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CA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1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5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UMBLEW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WEETWA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BU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AHUA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1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1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BLUE SK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2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OON MOUNT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LOOKOUT MOUNTA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BRAHAM LINCOL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2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prostor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320" y="1881360"/>
            <a:ext cx="8915400" cy="4595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39625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66"/>
                </a:solidFill>
                <a:latin typeface="Times New Roman"/>
              </a:rPr>
              <a:t>Sve prostorije koje nisu obeležene predstavljaju kancelari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CUB – ZAHTEVI I RESE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2×100/1000Base-ZX port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koji se koristi za vezu sa skola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serijski interfej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vezu sa drugim čvoriš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Rešenje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Cisco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serije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37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HAW BUTTE SCHOOL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RASPORED IP ADRES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844640"/>
          <a:ext cx="8893080" cy="4753080"/>
        </p:xfrm>
        <a:graphic>
          <a:graphicData uri="http://schemas.openxmlformats.org/drawingml/2006/table">
            <a:tbl>
              <a:tblPr/>
              <a:tblGrid>
                <a:gridCol w="1455840"/>
                <a:gridCol w="1460520"/>
                <a:gridCol w="2332080"/>
                <a:gridCol w="2114280"/>
                <a:gridCol w="153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haw But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ichard E. Mil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oyal Pal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1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2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sta La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actus W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5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nzani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ry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cotil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1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75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6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rroy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7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7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8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ommunity Sch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9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9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80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4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rangew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3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3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74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6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HAW BUTTE SCHOOL                ZAHTEVI I RESENJ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2×100/1000Base-ZX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za vezu sa škola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serijski interfejs za vezu sa drugim čvoriš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cc"/>
                </a:solidFill>
                <a:latin typeface="Tahoma"/>
              </a:rPr>
              <a:t>Reš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Cisco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serije </a:t>
            </a: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37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District Office/Data Cen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824120"/>
          <a:ext cx="8856720" cy="5033880"/>
        </p:xfrm>
        <a:graphic>
          <a:graphicData uri="http://schemas.openxmlformats.org/drawingml/2006/table">
            <a:tbl>
              <a:tblPr/>
              <a:tblGrid>
                <a:gridCol w="1363680"/>
                <a:gridCol w="1477800"/>
                <a:gridCol w="2359080"/>
                <a:gridCol w="2139840"/>
                <a:gridCol w="15163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ko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erver (VI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dmin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udent (VL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N interf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IRON W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SERT FOOTH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4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4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5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HAPAR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6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6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7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0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HOL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8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8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39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JOHN JACOB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0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0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1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1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LAKE 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WASINGT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4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4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5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2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ROAD RUN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6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1.46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7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38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OUNTAIN 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8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8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9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42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UNNYSLO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0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0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1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46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DESERT SLO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2.0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2.128/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53.0/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47.91.4.34/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DISTIRCT OFFICE/DATA CENTER ZAHTEVI I RESENJ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Zahtev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Interni rou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2×100/1000Base-ZX por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škola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 1000Base-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DM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100/1000Base-T port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lokalni L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serijski interfejs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vezu sa drugim čvorišti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Eksterni rou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serijski interfejs za Frame Relay vezu sa Internet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100Base-TX port za vezu sa DM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Switch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koji se koristi</a:t>
            </a: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 za 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demilitarizovanu zon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cc"/>
                </a:solidFill>
                <a:latin typeface="Tahoma"/>
              </a:rPr>
              <a:t>Reše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Cisco374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×NM-1T3/E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NM-16ESW-PWR-1GI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6×10/100Base-TX + 1×1000Base-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Cisco269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1×WS-C2970G-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cc"/>
                </a:solidFill>
                <a:latin typeface="Tahoma"/>
              </a:rPr>
              <a:t>24×10/100/1000Base-T 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IGURNOST WAN-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Double firewall (perimeter networ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Javni servisi u DM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Nema direktne veze Internet &lt;-&gt; šk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ACL za filtriranje saobrać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Ograničen saobraćaj između VLAN-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MZ SERVERI IP ADRE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SMTP: 150.1.1.3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PROXY: 150.1.1.6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WWW: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150.1.1.5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Tahoma"/>
              </a:rPr>
              <a:t>DNS: 150.1.1.4/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LOGICKA TOPOLOGIJA DISTRICT OFFICE I SEMACKI PRIKAZ ACL-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40000" y="5661000"/>
            <a:ext cx="79524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708360" y="1989000"/>
            <a:ext cx="79524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924360" y="3716280"/>
            <a:ext cx="885600" cy="588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580000" y="2852640"/>
            <a:ext cx="658800" cy="649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655560" cy="644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580000" y="3933720"/>
            <a:ext cx="6447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580000" y="1773360"/>
            <a:ext cx="650880" cy="647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95280" y="3141720"/>
            <a:ext cx="1873080" cy="1439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5076720" y="2636640"/>
            <a:ext cx="935280" cy="9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720" y="371628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203640" y="4365720"/>
            <a:ext cx="1081080" cy="1296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5589720"/>
            <a:ext cx="215640" cy="2314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2421000"/>
            <a:ext cx="216000" cy="2300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95640" y="2637000"/>
            <a:ext cx="136836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2276640"/>
            <a:ext cx="719280" cy="792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00720" y="3068280"/>
            <a:ext cx="719280" cy="1081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00720" y="3068640"/>
            <a:ext cx="719280" cy="21607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72000" y="3068640"/>
            <a:ext cx="647640" cy="730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10760" y="2852640"/>
            <a:ext cx="27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147.91.1.0/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788000" y="4076640"/>
            <a:ext cx="792000" cy="11527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788000" y="4076640"/>
            <a:ext cx="792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788000" y="3068640"/>
            <a:ext cx="79200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787640" y="2205000"/>
            <a:ext cx="647640" cy="1871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140000" y="2637000"/>
            <a:ext cx="215640" cy="1008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2133720"/>
            <a:ext cx="216000" cy="2300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8320" y="1989000"/>
            <a:ext cx="14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57920" y="5300640"/>
            <a:ext cx="11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5920" y="1773360"/>
            <a:ext cx="11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16520" y="5445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87800" y="400536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87800" y="321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7800" y="17002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73120" y="5877000"/>
            <a:ext cx="14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09760" y="4653000"/>
            <a:ext cx="17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4160" y="3500280"/>
            <a:ext cx="18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3440" y="2421000"/>
            <a:ext cx="18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K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onfig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racija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: router DC intern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Serial 0/1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SC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encapsulation pp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3.1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Serial 0/2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SB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encapsulation pp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3.5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nterface GigabitEthernet 0/1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description DMZ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ip address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.2.2 </a:t>
            </a:r>
            <a:r>
              <a:rPr b="1" lang="en-US" sz="15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group 101 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any any gt 1023 establish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udp any any eq d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any any eq d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host 150.1.2.3 any eq smt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cc"/>
                </a:solidFill>
                <a:latin typeface="Courier New"/>
              </a:rPr>
              <a:t>Access-list 101 permit tcp host 150.1.1.6 eq 8080 any gt 1023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K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onfig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racija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: router DC extern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nterface Serial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description Intern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p unnumbered GigabitEthernet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encapsulation frame-rel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bandwith 32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group 101 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nterface GigabitEthernet 0/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description District WAN (DMZ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ip address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1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/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0.0 establish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3 eq sm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ud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4 eq d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1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1.4 eq d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access-list 101 permit tcp any host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147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.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9</a:t>
            </a:r>
            <a:r>
              <a:rPr b="1" lang="sr-Latn-CS" sz="1600" spc="-1" strike="noStrike">
                <a:solidFill>
                  <a:srgbClr val="0000cc"/>
                </a:solidFill>
                <a:latin typeface="Courier New"/>
              </a:rPr>
              <a:t>1.1.5 eq www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razvodnih ormar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76520" y="1839960"/>
            <a:ext cx="60642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ložaj MDF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MDF se nalazi na prvom sp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P je u podrumu zgrade, i iz njega se vodi telefonski kabl sa 20 parica do MD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do MDFa dovode korišćenjem PVC kan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erveri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će biti postavljeni u istoj prostoriji u kojoj je M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bor kabla za 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Dartmouth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15200" cy="39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52419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Za vertikalno kabliranje koristiće se optički kabl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50/125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m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sa 4. optička vlak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što je površina sprata veća od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1000m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na svakom spratu se stavljaju najmanje dva rek ormana (u podrumu samo je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vertikalnog razvoda vode se kroz PVC ka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 (spisak linija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66880" y="4343400"/>
          <a:ext cx="3886200" cy="212256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1,1002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2001,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3,1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3001,3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5,1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4001,4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3,4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5001,5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5,4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6001,6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7,1008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7001,7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914400" y="2133720"/>
          <a:ext cx="7391520" cy="18190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kab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, 4 vlak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za 12xSC duplex adapt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duplex adapter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pigtai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 SC – 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20" y="1957320"/>
            <a:ext cx="90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54:11Z</dcterms:created>
  <dc:creator>Antonio Novakovic</dc:creator>
  <dc:description/>
  <dc:language>en-US</dc:language>
  <cp:lastModifiedBy>Oliver Ilic</cp:lastModifiedBy>
  <dcterms:modified xsi:type="dcterms:W3CDTF">2003-12-21T19:31:04Z</dcterms:modified>
  <cp:revision>206</cp:revision>
  <dc:subject/>
  <dc:title>CCNA semestar 1 Projekat kabliranja</dc:title>
</cp:coreProperties>
</file>