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A01-F19F-4EDB-96FD-FD853363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7B7-9BB4-4FD0-9B7F-35FD0B66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B8E-FB40-4C5E-B577-5C4B86C1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26A-D513-4252-AA4A-848BC501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CBD8-1F57-457B-B9CB-C1EE9CDF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2B0E-CB78-406A-9B54-0F7105B8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FD6A-EAE7-4FE1-BD7B-987E34CC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D659-5033-4DBE-8079-E9FF5C73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5F26-C598-45AB-A404-92397D61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6709-B9A3-4399-96DF-AFF766B6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4EE6-0BF5-4BC5-8D13-89EF6351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512-0FD1-44C6-85E3-98920528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0736-298B-41E3-B33C-9CA90311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1A77-0B25-4D73-9256-ECDB2C42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4ED1-A405-4A67-A2BB-B20F6483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81BD-0283-430C-83F4-2EC7AFCA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A8D4-8EE9-43F1-8DC6-ABC595E0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5CD-6E2A-4DA2-9969-957249DD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0A1-E4EC-4B8F-ACB0-30C259E2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C82-198A-4C8A-92FE-6AA6F8F2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8EA-24FD-4790-ACD7-B14D4BE0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1D2-052D-49F4-9A64-BE3FE161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553-FFC9-48B7-9AF9-25C0042B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2F9-B098-4A44-8265-19D2471F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70DA-ADA0-438C-8978-33F95B04B1A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FFFF-6E6F-4FF3-B5C5-29C3D6EFE5E9}" type="slidenum"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9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21608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CNA semestar 1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jekat kabliran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3885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akultet 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sporta i fizičkog vaspitanj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Tahoma"/>
              </a:rPr>
              <a:t>Antonio Novaković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Tahoma"/>
              </a:rPr>
              <a:t>Oliver Ilić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Horizontalna instalacija se vodi kroz PVC kanale dimenzija 110x70, 35x35 i 35x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Koriste se kablovi kategorije 5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Kablovi se završavaju sa jedne strane na 19” patch panelima u razvodnim ormarima, a sa druge strane na nazidnim blok utičnic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          MDF R1 - spisak materijal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71640" y="1981080"/>
          <a:ext cx="7410240" cy="4637160"/>
        </p:xfrm>
        <a:graphic>
          <a:graphicData uri="http://schemas.openxmlformats.org/drawingml/2006/table">
            <a:tbl>
              <a:tblPr/>
              <a:tblGrid>
                <a:gridCol w="5048280"/>
                <a:gridCol w="1143000"/>
                <a:gridCol w="1218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Jed.m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lič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Rek orman KRONE 19” 43H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Ventilator panel sa tri ventilatora i termostat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panel KRONE HIGHWAY sa 32xRJ45 1HE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panel KRONE HIGHWAY sa 24xRJ45 1HE (za telefone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ržač kablova 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olica 19”  2H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Napajanje za rack 19” 7x320 sa prekidače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110x7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35x3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35x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7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abl punog preseka (wall) Cat.5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67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kabl dužine 6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kabl dužine 3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RONE nazidna blok utičnica SMK-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RONE nazidna blok utičnica SMK-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          MDF R1 - spisak lini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80880" y="1981080"/>
          <a:ext cx="3886200" cy="4267440"/>
        </p:xfrm>
        <a:graphic>
          <a:graphicData uri="http://schemas.openxmlformats.org/drawingml/2006/table">
            <a:tbl>
              <a:tblPr/>
              <a:tblGrid>
                <a:gridCol w="2819520"/>
                <a:gridCol w="1066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01,11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03,1104,1105,11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1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07,1108,1109,1110,11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12,1113,1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15,1116,1117,1118,11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20,1121,1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23,11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6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25,11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27,11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29,1130,1131,11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01,1202,1203,1204,1205,12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07,12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09,12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648320" y="1981080"/>
          <a:ext cx="3886200" cy="4267440"/>
        </p:xfrm>
        <a:graphic>
          <a:graphicData uri="http://schemas.openxmlformats.org/drawingml/2006/table">
            <a:tbl>
              <a:tblPr/>
              <a:tblGrid>
                <a:gridCol w="2819160"/>
                <a:gridCol w="1067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11,13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13,12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7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15,1216,1217,12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0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19,1320,1321,1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4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23,1224,1225,12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27,1228,1229,13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31,1232,1301,13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03,1304,1305,13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07,1308,1309,13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11,1312,1313,13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7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15,1316,1317,13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3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19,13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7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Ukupno 84 lini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67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          IDF R2 - spisak materijal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90720" y="2133720"/>
          <a:ext cx="7391160" cy="3601800"/>
        </p:xfrm>
        <a:graphic>
          <a:graphicData uri="http://schemas.openxmlformats.org/drawingml/2006/table">
            <a:tbl>
              <a:tblPr/>
              <a:tblGrid>
                <a:gridCol w="5029200"/>
                <a:gridCol w="1143000"/>
                <a:gridCol w="1218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Jed.m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lič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Rek orman KRONE 19” 18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panel KRONE HIGHWAY sa 32xRJ45 1H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ržač kablov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110x7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35x3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35x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Napajanje za rack 19” 7x320 sa prekidač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abl punog preseka (wall) Cat.5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9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kabl dužine 6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kabl dužine 3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RONE nazidna blok utičnica SMK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          IDF R2 - spisak lini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1981080"/>
          <a:ext cx="3886200" cy="4267440"/>
        </p:xfrm>
        <a:graphic>
          <a:graphicData uri="http://schemas.openxmlformats.org/drawingml/2006/table">
            <a:tbl>
              <a:tblPr/>
              <a:tblGrid>
                <a:gridCol w="2819520"/>
                <a:gridCol w="1066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01,31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03,3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05,31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07,3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7,5 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09,31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11,31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13,3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9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15,31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17,3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19,31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21,3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23,31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9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25,31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6 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648320" y="1981080"/>
          <a:ext cx="3886200" cy="4267440"/>
        </p:xfrm>
        <a:graphic>
          <a:graphicData uri="http://schemas.openxmlformats.org/drawingml/2006/table">
            <a:tbl>
              <a:tblPr/>
              <a:tblGrid>
                <a:gridCol w="2819160"/>
                <a:gridCol w="1067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27,31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29,2130,3131,31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01,3202,3203,32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05,3206,3207,32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09,3210,3211,32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13,3214,3215,32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17,3218,3219,23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321,3222,3223,32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25,3226,3227,32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6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29,2330,3231,32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1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01,3302,3303,33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05,3306,3307,33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7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09,3310,3311,33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1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          IDF R2 - spisak lini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14600" y="1981080"/>
          <a:ext cx="3886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1066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13,3314,3315,33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17,3318,3319,33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21,3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6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23,3324,3325,33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6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27,3328,3329,33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6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31,3332,3401,34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73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03,3404,3405,34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77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07,3408,3409,34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0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11,34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Ukupno linija 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9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Potrebna a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tivna opr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542880" y="1982880"/>
            <a:ext cx="8296200" cy="35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Potreba oprema za MDF</a:t>
            </a:r>
            <a:r>
              <a:rPr b="0" lang="sr-Latn-CS" sz="2400" spc="-1" strike="noStrike">
                <a:solidFill>
                  <a:srgbClr val="0066ff"/>
                </a:solidFill>
                <a:latin typeface="Tahoma"/>
              </a:rPr>
              <a:t> (R1)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Router sa </a:t>
            </a: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bar 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tri </a:t>
            </a: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fast 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ethernet port</a:t>
            </a: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 i jednim serijskim port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Switch sa </a:t>
            </a: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najmanje 60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fast ethernet 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ortova </a:t>
            </a: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0066ff"/>
                </a:solidFill>
                <a:latin typeface="Tahoma"/>
              </a:rPr>
              <a:t>najmanje 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4 opti</a:t>
            </a: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čka por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66ff"/>
                </a:solidFill>
                <a:latin typeface="Tahoma"/>
              </a:rPr>
              <a:t>Potrebna oprema za IDF (R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Switch sa 60 portova i najmanje 4 optička por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66ff"/>
                </a:solidFill>
                <a:latin typeface="Tahoma"/>
              </a:rPr>
              <a:t>Potrebna oprema za ostale IDF-ove (R2, R3, R5, R6, R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Switch sa najmanje 48 fast ethernet portova i najmanje jednim optičkim port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Izabrana a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tivna oprem</a:t>
            </a: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2362320"/>
          <a:ext cx="8380440" cy="2074680"/>
        </p:xfrm>
        <a:graphic>
          <a:graphicData uri="http://schemas.openxmlformats.org/drawingml/2006/table">
            <a:tbl>
              <a:tblPr/>
              <a:tblGrid>
                <a:gridCol w="455760"/>
                <a:gridCol w="4952880"/>
                <a:gridCol w="838080"/>
                <a:gridCol w="838440"/>
                <a:gridCol w="129528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Rb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li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č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ena po komad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Ukupna ce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40000"/>
                          </a:solidFill>
                          <a:latin typeface="Tahoma"/>
                        </a:rPr>
                        <a:t>(14412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iISCO2621XM-2FE/VPN/K9 Rou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165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165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IC-2A/S – 2 port async/sync WAN interface ca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80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80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S-C3508G-XL Cisco Catalyst switch with 8Gbic slo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620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620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S-G5486 Fiber med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99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196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S-C2980 Cisco Catalyst switch with 80FE ports,2 Gbic slot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051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051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09960" y="1947960"/>
            <a:ext cx="33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Potrebna oprema za MDF (R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9400" y="441792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Potrebna oprema za IDF (R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4800600"/>
          <a:ext cx="8381880" cy="1487520"/>
        </p:xfrm>
        <a:graphic>
          <a:graphicData uri="http://schemas.openxmlformats.org/drawingml/2006/table">
            <a:tbl>
              <a:tblPr/>
              <a:tblGrid>
                <a:gridCol w="457200"/>
                <a:gridCol w="4952880"/>
                <a:gridCol w="838440"/>
                <a:gridCol w="838080"/>
                <a:gridCol w="129528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Rb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lič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ena po komad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Ukupna ce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40000"/>
                          </a:solidFill>
                          <a:latin typeface="Tahoma"/>
                        </a:rPr>
                        <a:t>(10606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isco Catalyst switch 2948G – 48 port FE ports, 2Gbic slo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359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359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S-G5486 Fiber me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99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196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S-C2980 Cisco Catalyst switch with 80FE ports, 2Gbic slo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051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051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Izabrana a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tivna oprem</a:t>
            </a: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5040" y="1868400"/>
            <a:ext cx="67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Potrebna oprema za ostale IDF-ove (R2, R3, R5, R6 i R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2228760"/>
          <a:ext cx="8381880" cy="1165320"/>
        </p:xfrm>
        <a:graphic>
          <a:graphicData uri="http://schemas.openxmlformats.org/drawingml/2006/table">
            <a:tbl>
              <a:tblPr/>
              <a:tblGrid>
                <a:gridCol w="457200"/>
                <a:gridCol w="4952880"/>
                <a:gridCol w="838440"/>
                <a:gridCol w="838080"/>
                <a:gridCol w="129528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Rb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lič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ena po komad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Ukupna ce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40000"/>
                          </a:solidFill>
                          <a:latin typeface="Tahoma"/>
                        </a:rPr>
                        <a:t>(22055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isco Catalyst 2948G – 48 fast ethernet ports, 2 Gbic slo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112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560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S-G5486 Fiber me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99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495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441360" y="3733920"/>
            <a:ext cx="771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kupna cena aktivne opreme za celu </a:t>
            </a:r>
            <a:r>
              <a:rPr b="0" lang="hr-HR" sz="1400" spc="-1" strike="noStrike">
                <a:solidFill>
                  <a:srgbClr val="000066"/>
                </a:solidFill>
                <a:latin typeface="Tahoma"/>
              </a:rPr>
              <a:t>računarsku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re</a:t>
            </a:r>
            <a:r>
              <a:rPr b="0" lang="hr-HR" sz="1400" spc="-1" strike="noStrike">
                <a:solidFill>
                  <a:srgbClr val="000066"/>
                </a:solidFill>
                <a:latin typeface="Tahoma"/>
              </a:rPr>
              <a:t>žu iznosi </a:t>
            </a:r>
            <a:r>
              <a:rPr b="0" lang="hr-HR" sz="1400" spc="-1" strike="noStrike">
                <a:solidFill>
                  <a:srgbClr val="f40000"/>
                </a:solidFill>
                <a:latin typeface="Tahoma"/>
              </a:rPr>
              <a:t>47073$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Tahoma"/>
              </a:rPr>
              <a:t>Logička topologija mrež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6720" y="2359080"/>
            <a:ext cx="771516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20968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Razvodni ormari obeleženi su oznakama R1 – R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MDF u toj notaciji ima oznaku 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IDFovi su obeleženi sa R2 – R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Linije vertikalnog razvoda imaju oznake oblika:   RPX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Pri čemu je R  – oznaka rek ormana (1 - 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P   – oznaka patch panela (0 – 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                           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0 se koristi za optički patch pa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XX – oznaka porta na patch pane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Linije horizontalnog razvoda obeležene su na isti nač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Način obeležavan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Tahoma"/>
              </a:rPr>
              <a:t>Diagram veze aktivne oprem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219320" y="1649520"/>
            <a:ext cx="68580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Tahoma"/>
              </a:rPr>
              <a:t>VLAN1, VLAN2, DM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Tahoma"/>
              </a:rPr>
              <a:t>Na VLAN-u 1 nalaze se računari svih zaposlenih na fakultetu i Windows 2000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Tahoma"/>
              </a:rPr>
              <a:t>U DMZ zoni se se nalazi samo Linux server, i ka njemu su dozvoljeni sledeći servi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Tahoma"/>
              </a:rPr>
              <a:t>SMTP, POP3, WWW, DNS, SSH, PROX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Tahoma"/>
              </a:rPr>
              <a:t>Na VLAN-u 2 nalaze se svi ostali računari (radne stani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Tahoma"/>
              </a:rPr>
              <a:t>Dozvola pristupa (ACL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Dozvola pristupa određenim servisima na Linux server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Access-list 100 </a:t>
            </a:r>
            <a:r>
              <a:rPr b="0" lang="hr-HR" sz="1600" spc="-1" strike="noStrike">
                <a:solidFill>
                  <a:srgbClr val="339966"/>
                </a:solidFill>
                <a:latin typeface="Tahoma"/>
              </a:rPr>
              <a:t>permit</a:t>
            </a: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 TCP any 147.91.231.5 0.0.0.0 eq 2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Access-list 100 </a:t>
            </a:r>
            <a:r>
              <a:rPr b="0" lang="hr-HR" sz="1600" spc="-1" strike="noStrike">
                <a:solidFill>
                  <a:srgbClr val="339966"/>
                </a:solidFill>
                <a:latin typeface="Tahoma"/>
              </a:rPr>
              <a:t>permit</a:t>
            </a: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 TCP any 147.91.231.5 0.0.0.0 eq 11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Access-list 100 </a:t>
            </a:r>
            <a:r>
              <a:rPr b="0" lang="hr-HR" sz="1600" spc="-1" strike="noStrike">
                <a:solidFill>
                  <a:srgbClr val="339966"/>
                </a:solidFill>
                <a:latin typeface="Tahoma"/>
              </a:rPr>
              <a:t>permit</a:t>
            </a: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 TCP any 147.91.231.5 0.0.0.0 eq 8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Access-list 100 </a:t>
            </a:r>
            <a:r>
              <a:rPr b="0" lang="hr-HR" sz="1600" spc="-1" strike="noStrike">
                <a:solidFill>
                  <a:srgbClr val="339966"/>
                </a:solidFill>
                <a:latin typeface="Tahoma"/>
              </a:rPr>
              <a:t>permit</a:t>
            </a: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 TCP any 147.91.231.5 0.0.0.0 eq 5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Access-list 100 </a:t>
            </a:r>
            <a:r>
              <a:rPr b="0" lang="hr-HR" sz="1600" spc="-1" strike="noStrike">
                <a:solidFill>
                  <a:srgbClr val="339966"/>
                </a:solidFill>
                <a:latin typeface="Tahoma"/>
              </a:rPr>
              <a:t>permit</a:t>
            </a: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 UDP any 147.91.231.5 0.0.0.0 eq 2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Access-list 100 </a:t>
            </a:r>
            <a:r>
              <a:rPr b="0" lang="hr-HR" sz="1600" spc="-1" strike="noStrike">
                <a:solidFill>
                  <a:srgbClr val="339966"/>
                </a:solidFill>
                <a:latin typeface="Tahoma"/>
              </a:rPr>
              <a:t>permit</a:t>
            </a: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 TCP any 147.91.231.5 0.0.0.0 eq 808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Access-list 100 </a:t>
            </a:r>
            <a:r>
              <a:rPr b="0" lang="hr-HR" sz="1600" spc="-1" strike="noStrike">
                <a:solidFill>
                  <a:srgbClr val="f40000"/>
                </a:solidFill>
                <a:latin typeface="Tahoma"/>
              </a:rPr>
              <a:t>deny</a:t>
            </a: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 IP any an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Interface eth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Ip access-group 100 i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Pozitivn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 stra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40000"/>
                </a:solidFill>
                <a:latin typeface="Tahoma"/>
              </a:rPr>
              <a:t>Horizontalni razvod - opt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Nema uticaja EMI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Velike brzine prenosa 1Gbps i viš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Nema problema sa uzemljenj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40000"/>
                </a:solidFill>
                <a:latin typeface="Tahoma"/>
              </a:rPr>
              <a:t>Verikalni razvod – cat.5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Maksimalna brzina do 1Gb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Niska ce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Negativn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 stra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40000"/>
                </a:solidFill>
                <a:latin typeface="Tahoma"/>
              </a:rPr>
              <a:t>Horizontalni razvod - opt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Visoka cena optičkog kabla i komponen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WAN ZAHTEVI I POTREB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Veze izmedju centara, koji se nalaze u regionu, se ostvaruju putem poprecnih veza tj. Iznajmljenih linija Mash tehnologijo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Ukupno postoje 3 regionalna cvorista i svako povezuje 12 skola koje se medjusobno vezuju dark fiber tehnologijo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erveri se nalaze u samom cvoristu dok je jedno cvoriste povezano preko Frame Relay Wan lin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ASPORED ADRES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istrikt ima adresni prostor 147.91.0.0 255.255.192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Mreza je podeljenja na subnete koji imaju masku 255.255.255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Jedan subnet sluzi za internet a drugi za demilitarizovanu zonu (DMZ), sa adresnim prostorom 147.91.1.0 255.255.255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ubnet koji se koristi za veze izmedju cvorista je 147.91.3.0 /24 a on se dalje deli u /30 subne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Po jedan subnet se koristi za vezu regionalnog cvorista (RCUB-A 147.91.5.0/24) sa skolama koji se dalje deli u /30 subnete (255.255.255.252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SPISAK SERIJSKIH INTERFEISA (CVORISTE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1981080"/>
          <a:ext cx="8278560" cy="4399920"/>
        </p:xfrm>
        <a:graphic>
          <a:graphicData uri="http://schemas.openxmlformats.org/drawingml/2006/table">
            <a:tbl>
              <a:tblPr/>
              <a:tblGrid>
                <a:gridCol w="3065760"/>
                <a:gridCol w="1457280"/>
                <a:gridCol w="375552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interfej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o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P adresa/subnet mas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C INTERF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0/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47.91.3.1/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C INTERF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0/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47.91.3.5/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 INTERF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0/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47.91.3.9/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 INTERF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0/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47.91.3.2/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B INTERF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0/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47.91.3.6/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B INTERF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0/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47.91.3.10/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OGICKA TOPOLOGIJA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435640" y="4076640"/>
            <a:ext cx="733320" cy="471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236000" y="3789360"/>
            <a:ext cx="658800" cy="649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372360" y="5445000"/>
            <a:ext cx="655560" cy="644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979640" y="5734080"/>
            <a:ext cx="798480" cy="601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4643280" y="2924280"/>
            <a:ext cx="792360" cy="598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2916360" y="4508640"/>
            <a:ext cx="792000" cy="601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3708360" y="5734080"/>
            <a:ext cx="798480" cy="608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00000" y="6093000"/>
            <a:ext cx="80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RC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56560" y="5589720"/>
            <a:ext cx="12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I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88040" y="64612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HAW BU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4360" y="4437000"/>
            <a:ext cx="28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ISTRICT OFF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843280" y="5157720"/>
            <a:ext cx="43344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627280" y="5157720"/>
            <a:ext cx="504720" cy="5032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35280" y="5157720"/>
            <a:ext cx="432000" cy="5032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6093000"/>
            <a:ext cx="7189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851280" y="4292280"/>
            <a:ext cx="1441440" cy="431640"/>
          </a:xfrm>
          <a:prstGeom prst="line">
            <a:avLst/>
          </a:prstGeom>
          <a:ln w="5724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7164360" y="4797360"/>
            <a:ext cx="644400" cy="647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V="1">
            <a:off x="6300720" y="4076280"/>
            <a:ext cx="64764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300720" y="4076640"/>
            <a:ext cx="935280" cy="216000"/>
          </a:xfrm>
          <a:prstGeom prst="line">
            <a:avLst/>
          </a:prstGeom>
          <a:ln w="5724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56360" y="4437000"/>
            <a:ext cx="1081080" cy="504720"/>
          </a:xfrm>
          <a:prstGeom prst="line">
            <a:avLst/>
          </a:prstGeom>
          <a:ln w="5724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4581360"/>
            <a:ext cx="503280" cy="719280"/>
          </a:xfrm>
          <a:prstGeom prst="line">
            <a:avLst/>
          </a:prstGeom>
          <a:ln w="5724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28000" y="5013360"/>
            <a:ext cx="66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21080" y="4005360"/>
            <a:ext cx="157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WW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4520" y="616572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-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219640" y="3573360"/>
            <a:ext cx="504720" cy="432000"/>
          </a:xfrm>
          <a:prstGeom prst="line">
            <a:avLst/>
          </a:prstGeom>
          <a:ln w="5724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1835280" y="2133720"/>
            <a:ext cx="1873080" cy="1439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748880" y="2554200"/>
            <a:ext cx="206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80000" y="2997360"/>
            <a:ext cx="79200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04000" y="2133720"/>
            <a:ext cx="4320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49880" y="1989000"/>
            <a:ext cx="207396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ERIJSKA V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P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2781360"/>
            <a:ext cx="432000" cy="0"/>
          </a:xfrm>
          <a:prstGeom prst="line">
            <a:avLst/>
          </a:prstGeom>
          <a:ln w="5724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04000" y="328464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51640" y="2637000"/>
            <a:ext cx="40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78760" y="3135240"/>
            <a:ext cx="2119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ERIJSKA VEZ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FRAME REL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CUB RASPORED IP ADRES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1778040"/>
          <a:ext cx="9144000" cy="5122800"/>
        </p:xfrm>
        <a:graphic>
          <a:graphicData uri="http://schemas.openxmlformats.org/drawingml/2006/table">
            <a:tbl>
              <a:tblPr/>
              <a:tblGrid>
                <a:gridCol w="1498680"/>
                <a:gridCol w="1498680"/>
                <a:gridCol w="2398680"/>
                <a:gridCol w="2173320"/>
                <a:gridCol w="157464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ko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erver (VI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dmin (V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tudent (V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WAN interf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DI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31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31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32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2\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UN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1.9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1.9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0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6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CA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1.11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1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2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1.5.10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TUMBLEW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3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3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4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14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WEETWA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5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5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6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18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UNBUR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7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7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8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22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AHUA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9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1.19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0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26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BLUE SK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1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1.21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2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30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MOON MOUNTA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3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3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4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34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LOOKOUT MOUNTA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5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5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6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38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BRAHAM LINCOL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7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7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8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42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Raspored prostori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6320" y="1881360"/>
            <a:ext cx="8915400" cy="4595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15000" y="396252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66"/>
                </a:solidFill>
                <a:latin typeface="Times New Roman"/>
              </a:rPr>
              <a:t>Sve prostorije koje nisu obeležene predstavljaju kancelarij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CUB – ZAHTEVI I RESEN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cc"/>
                </a:solidFill>
                <a:latin typeface="Tahoma"/>
              </a:rPr>
              <a:t>Zahte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12×100/1000Base-ZX port 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koji se koristi za vezu sa skolam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2×100/1000Base-T port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koji se koristi</a:t>
            </a: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 za lokalni 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2×serijski interfejs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koji se koristi</a:t>
            </a: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 za vezu sa drugim čvorišt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cc"/>
                </a:solidFill>
                <a:latin typeface="Tahoma"/>
              </a:rPr>
              <a:t>Rešenje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1×Cisco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serije </a:t>
            </a: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374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2×NM-1T3/E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1×NM-16ESW-PWR-1GI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16×10/100Base-TX + 1×1000Base-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SHAW BUTTE SCHOOL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RASPORED IP ADRES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1844640"/>
          <a:ext cx="8893080" cy="4753080"/>
        </p:xfrm>
        <a:graphic>
          <a:graphicData uri="http://schemas.openxmlformats.org/drawingml/2006/table">
            <a:tbl>
              <a:tblPr/>
              <a:tblGrid>
                <a:gridCol w="1455840"/>
                <a:gridCol w="1460520"/>
                <a:gridCol w="2332080"/>
                <a:gridCol w="2114280"/>
                <a:gridCol w="1530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ko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erver (VI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dmin (V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tudent (V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WAN interf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haw But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7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7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8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2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Richard E. Mil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9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9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0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6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Royal Pal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1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1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2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10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sta La Vi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3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3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4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14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Cactus W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5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5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6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18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Manzani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7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7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8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22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Maryl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9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9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0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26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Ocotill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1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1.75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6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38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rroy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7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7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8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42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Community Scho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9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9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80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46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Orangew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3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3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4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34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SHAW BUTTE SCHOOL                ZAHTEVI I RESENJ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cc"/>
                </a:solidFill>
                <a:latin typeface="Tahoma"/>
              </a:rPr>
              <a:t>Zahte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12×100/1000Base-ZX port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koji se koristi </a:t>
            </a: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za vezu sa škola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2×100/1000Base-T port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koji se koristi</a:t>
            </a: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 za lokalni 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2×serijski interfejs za vezu sa drugim čvorišt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cc"/>
                </a:solidFill>
                <a:latin typeface="Tahoma"/>
              </a:rPr>
              <a:t>Reše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1×Cisco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serije </a:t>
            </a: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374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2×NM-1T3/E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1×NM-16ESW-PWR-1GI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16×10/100Base-TX + 1×1000Base-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District Office/Data Cent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1824120"/>
          <a:ext cx="8856720" cy="5033880"/>
        </p:xfrm>
        <a:graphic>
          <a:graphicData uri="http://schemas.openxmlformats.org/drawingml/2006/table">
            <a:tbl>
              <a:tblPr/>
              <a:tblGrid>
                <a:gridCol w="1363680"/>
                <a:gridCol w="1477800"/>
                <a:gridCol w="2359080"/>
                <a:gridCol w="2139840"/>
                <a:gridCol w="151632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ko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erver (VI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dmin (V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tudent (V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WAN interf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IRON W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2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2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3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2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DESERT FOOTHI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4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4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5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6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CHAPAR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6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6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7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10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CHOL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8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8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9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14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JOHN JACOB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0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0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1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18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LAKE VI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2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2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3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22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WASINGT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4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4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5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26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ROAD RUN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6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1.46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7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38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MOUNTAIN VI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8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8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9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42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UNNYSLO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0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0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1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46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DESERT SLO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2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2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3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34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DISTIRCT OFFICE/DATA CENTER ZAHTEVI I RESENJ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Zahtev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Interni rou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2×100/1000Base-ZX port</a:t>
            </a: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koji se koristi</a:t>
            </a: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 za vezu sa školam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× 1000Base-T</a:t>
            </a: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koji se koristi</a:t>
            </a: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 za vezu sa DM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2×100/1000Base-T port</a:t>
            </a: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koji se koristi</a:t>
            </a: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 za lokalni L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2×serijski interfejs</a:t>
            </a: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koji se koristi</a:t>
            </a: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 za vezu sa drugim čvorištim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Eksterni rou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×serijski interfejs za Frame Relay vezu sa Internet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×100Base-TX port za vezu sa DM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Switch</a:t>
            </a: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koji se koristi</a:t>
            </a: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 za </a:t>
            </a: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demilitarizovanu zon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Rešen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×Cisco374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2×NM-1T3/E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×NM-16ESW-PWR-1GI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6×10/100Base-TX + 1×1000Base-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×Cisco269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×WS-C2970G-2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24×10/100/1000Base-T 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IGURNOST WAN-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Double firewall (perimeter networ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Javni servisi u DM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Nema direktne veze Internet &lt;-&gt; šk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ACL za filtriranje saobraća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Ograničen saobraćaj između VLAN-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MZ SERVERI IP ADRE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SMTP: 150.1.1.3/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PROXY: 150.1.1.6/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WWW: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150.1.1.5/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DNS: 150.1.1.4/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LOGICKA TOPOLOGIJA DISTRICT OFFICE I SEMACKI PRIKAZ ACL-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340000" y="5661000"/>
            <a:ext cx="795240" cy="604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708360" y="1989000"/>
            <a:ext cx="795240" cy="604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924360" y="3716280"/>
            <a:ext cx="885600" cy="588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580000" y="2852640"/>
            <a:ext cx="658800" cy="649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508720" y="5157720"/>
            <a:ext cx="655560" cy="6447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5580000" y="3933720"/>
            <a:ext cx="644760" cy="647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5580000" y="1773360"/>
            <a:ext cx="650880" cy="647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395280" y="3141720"/>
            <a:ext cx="1873080" cy="1439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V="1">
            <a:off x="5076720" y="2636640"/>
            <a:ext cx="935280" cy="93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5720" y="3716280"/>
            <a:ext cx="193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203640" y="4365720"/>
            <a:ext cx="1081080" cy="12967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59280" y="5589720"/>
            <a:ext cx="215640" cy="2314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0" y="2421000"/>
            <a:ext cx="216000" cy="2300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195640" y="2637000"/>
            <a:ext cx="1368360" cy="1008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2276640"/>
            <a:ext cx="719280" cy="792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300720" y="3068280"/>
            <a:ext cx="719280" cy="1081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300720" y="3068640"/>
            <a:ext cx="719280" cy="216072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372000" y="3068640"/>
            <a:ext cx="647640" cy="73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10760" y="2852640"/>
            <a:ext cx="27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147.91.1.0/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788000" y="4076640"/>
            <a:ext cx="792000" cy="11527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788000" y="4076640"/>
            <a:ext cx="79200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788000" y="3068640"/>
            <a:ext cx="792000" cy="1008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787640" y="2205000"/>
            <a:ext cx="647640" cy="1871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140000" y="2637000"/>
            <a:ext cx="215640" cy="1008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2133720"/>
            <a:ext cx="216000" cy="2300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8320" y="1989000"/>
            <a:ext cx="14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A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57920" y="5300640"/>
            <a:ext cx="11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65920" y="1773360"/>
            <a:ext cx="11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16520" y="544500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87800" y="400536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87800" y="321300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87800" y="170028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73120" y="5877000"/>
            <a:ext cx="14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09760" y="4653000"/>
            <a:ext cx="17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34160" y="3500280"/>
            <a:ext cx="18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-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33440" y="2421000"/>
            <a:ext cx="18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K</a:t>
            </a:r>
            <a:r>
              <a:rPr b="0" lang="sr-Latn-CS" sz="4000" spc="-1" strike="noStrike">
                <a:solidFill>
                  <a:srgbClr val="000066"/>
                </a:solidFill>
                <a:latin typeface="Tahoma"/>
              </a:rPr>
              <a:t>onfig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racija</a:t>
            </a:r>
            <a:r>
              <a:rPr b="0" lang="sr-Latn-CS" sz="4000" spc="-1" strike="noStrike">
                <a:solidFill>
                  <a:srgbClr val="000066"/>
                </a:solidFill>
                <a:latin typeface="Tahoma"/>
              </a:rPr>
              <a:t>: router DC interni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interface Serial 0/1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description SC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encapsulation ppp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ip 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91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.3.1 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/24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interface Serial 0/2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description SB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encapsulation ppp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ip 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91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.3.5 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/24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interface GigabitEthernet 0/1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description DMZ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ip address 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91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.2.2 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/24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access-group 101 i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access-list 101 permit tcp any any gt 1023 established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access-list 101 permit udp any any eq d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access-list 101 permit tcp any any eq d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access-list 101 permit tcp host 150.1.2.3 any eq smtp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Access-list 101 permit tcp host 150.1.1.6 eq 8080 any gt 1023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K</a:t>
            </a:r>
            <a:r>
              <a:rPr b="0" lang="sr-Latn-CS" sz="4000" spc="-1" strike="noStrike">
                <a:solidFill>
                  <a:srgbClr val="000066"/>
                </a:solidFill>
                <a:latin typeface="Tahoma"/>
              </a:rPr>
              <a:t>onfig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racija</a:t>
            </a:r>
            <a:r>
              <a:rPr b="0" lang="sr-Latn-CS" sz="4000" spc="-1" strike="noStrike">
                <a:solidFill>
                  <a:srgbClr val="000066"/>
                </a:solidFill>
                <a:latin typeface="Tahoma"/>
              </a:rPr>
              <a:t>: router DC externi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interface Serial 0/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description Interne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ip unnumbered GigabitEthernet 0/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encapsulation frame-rela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bandwith 3200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access-group 101 i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interface GigabitEthernet 0/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description District WAN (DMZ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ip address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91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1.1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/2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access-list 101 permit tcp any host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91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0.0 establishe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access-list 101 permit tcp any host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91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1.3 eq smt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access-list 101 permit udp any host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91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1.4 eq d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access-list 101 permit tcp any host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91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1.4 eq d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access-list 101 permit tcp any host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9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1.1.5 eq www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Raspored razvodnih ormar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76520" y="1839960"/>
            <a:ext cx="60642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Položaj MDF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MDF se nalazi na prvom sp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POP je u podrumu zgrade, i iz njega se vodi telefonski kabl sa 20 parica do MDF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Kablovi se do MDFa dovode korišćenjem PVC kan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erveri </a:t>
            </a: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će biti postavljeni u istoj prostoriji u kojoj je MD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Izbor kabla za vertikalno kabliranj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19051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Dartmouth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14400" y="2590920"/>
            <a:ext cx="7315200" cy="396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9680" y="524196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Vertikalno kabliranj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Za vertikalno kabliranje koristiće se optički kabl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50/125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m </a:t>
            </a: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sa 4. optička vlak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Pošto je površina sprata veća od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1000m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na svakom spratu se stavljaju najmanje dva rek ormana (u podrumu samo jed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Kablovi vertikalnog razvoda vode se kroz PVC kan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Vertikalno kabliranje (spisak linija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666880" y="4343400"/>
          <a:ext cx="3886200" cy="2122560"/>
        </p:xfrm>
        <a:graphic>
          <a:graphicData uri="http://schemas.openxmlformats.org/drawingml/2006/table">
            <a:tbl>
              <a:tblPr/>
              <a:tblGrid>
                <a:gridCol w="2819160"/>
                <a:gridCol w="1067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01,1002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2001,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0 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03,1004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3001,3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05,1006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4001,4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0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003,4004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5001,5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0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005,4006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6001,6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07,1008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7001,7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0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914400" y="2133720"/>
          <a:ext cx="7391520" cy="1819080"/>
        </p:xfrm>
        <a:graphic>
          <a:graphicData uri="http://schemas.openxmlformats.org/drawingml/2006/table">
            <a:tbl>
              <a:tblPr/>
              <a:tblGrid>
                <a:gridCol w="5029200"/>
                <a:gridCol w="1143000"/>
                <a:gridCol w="1219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Jed.m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lič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Optički kabl 50/125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, 4 vlak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Optički patch panel za 12xSC duplex adapte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 duplex adapter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 pigtail 50/125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Optički patch panel 50/125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 SC – 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320" y="1957320"/>
            <a:ext cx="900108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21:54:11Z</dcterms:created>
  <dc:creator>Antonio Novakovic</dc:creator>
  <dc:description/>
  <dc:language>en-US</dc:language>
  <cp:lastModifiedBy>Oliver Ilic</cp:lastModifiedBy>
  <dcterms:modified xsi:type="dcterms:W3CDTF">2003-12-21T19:31:04Z</dcterms:modified>
  <cp:revision>206</cp:revision>
  <dc:subject/>
  <dc:title>CCNA semestar 1 Projekat kabliranja</dc:title>
</cp:coreProperties>
</file>